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C01-E701-404A-8AD9-9DCB1FC1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DE6-E711-4A5D-9ED2-D91FA884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D96A0-5F7E-4F20-9505-5D8273C2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13454-D663-4E7C-9861-4505DDB5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6F2D9-4229-4205-BCEF-AD5EB676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D755B-0AF5-4B6B-8EE6-375533B2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90B94-3569-4C9D-AE27-541AAE5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394CF-963D-4273-9C7A-501094B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2764-45A7-401C-9A5D-735507C9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59AF8-D1D8-4A24-81AA-972A73E9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E9792-0DB9-40CC-B8BB-C623CDB1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98659-854B-4973-B931-39E3C705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B6C-5F23-4F62-B68A-723918CA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08598-9513-42DA-9127-2B775CA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E4120-424A-44C6-A353-9D69C2B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A1134-29ED-45E3-8EFB-5646FA5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80C96-B8DC-415C-8E6A-B6BCE99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0DF1-976C-4B8E-A978-3B60CAA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FCBF2-759B-43F8-9A8B-44EE0A1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5713F-5EF8-4E57-A750-5CA25557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E6088-5649-457F-84B3-613C981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5E778-E9D5-4046-A8DA-3EE09AE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4255B-85AB-47A8-94F9-357951B7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780-F1EB-4BBD-B79B-08A5393D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BF512-80DB-4C0E-95E3-5F172DEA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2CDC8-22C6-426C-8542-7949C4F3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7332B-BBF0-4A34-A031-12F265E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D906-EEF0-4624-A2CF-B3CAB052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27D0C-4881-4CBF-9DE9-A358A8C4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0438-96CA-40A5-A800-B777A88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E0165-8DD6-4D46-A0C8-77E0C3AB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6385-3FC3-475F-83F6-856197E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4E0A4-E928-4BFF-8C74-21F420F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DE89-FCE8-4700-9D99-F045D6A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42DD-2BE9-4AA8-AFBC-5907F378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33935-C467-49D0-9B2E-9A607E7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C6CB-7A2F-4159-9688-684C578B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71DD6-748C-4498-A8EA-96581F76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1BE40-D679-448E-8EF7-3BA984B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769F0-0D4B-4896-85BF-5ED62AE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144A-761D-4B9A-A7A1-63DDD3C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5FB41-0F11-49EA-B36E-4DCD2223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8234B-0666-4243-A590-A0FB2EE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10A33-5E5E-45CC-A645-B2614D39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EDCB-544A-49BC-9472-E347311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3A46-A87C-4B06-97CD-20C3F033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0856B-3B80-4B26-B420-3F2FD46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47B18-1F72-4C52-9AFD-5BE9EDBD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F7958-35CD-4DAA-B36A-E9519CD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C767F-2977-48EB-854F-31629FDB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F3B71-9C9E-49F3-BB3D-6F7DA815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88ABE-781D-45A7-847D-65EBBC2C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38D21-8ECE-480E-9387-6600D306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94C5A-A310-436E-A546-FA4F9C1B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4DC21-9FDD-4B3F-8317-B9FE4F2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23A22-5D1C-45E4-90C6-4E708AD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457F-2CF3-4B4E-9C84-2BA48B1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FFCF6-DD93-495D-9726-81FBB19C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3FF02-A4D0-4364-A354-B3A9499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11C9D-DA87-4414-B5BB-1F3B1E5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2DDCC-FC23-43A2-88F3-B94A3A0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DFA29-847F-4D2F-8F22-EAAA1EA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9E356-20D2-412C-B522-F7BF4EB4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43421-A2C4-4B14-9119-5F0179C4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C7DF8-DDAE-437C-AF41-BC59A363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0E9CC-F403-4A9E-AA56-96ED99AF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449E4-6523-4380-AD8E-A54DFFF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9C5-8A66-4721-A8D8-541B6A68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6F705-7F7F-410A-9447-036C28D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E5B74-CAD2-4C47-A4DB-B3CD7C7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71DBF-5B65-4300-9F0B-8B21BE1B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C109E-EE16-4FD0-B63F-68C07CAC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6FB61-2FDA-43FD-AB43-1EA2D98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521A6-B3D4-471C-915A-9D5F983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F00B8-3778-48E1-A2C3-69FD76A7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3F3D9-A962-43E4-9627-5567E2D6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73653-5415-4396-A66C-7141CF7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C78D6-0E44-458D-B6F0-63F20F8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0A21-C112-4E82-9904-1FC7D23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58A6E-C78D-4DD3-8DFE-C65EA89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C3410-B8D3-4BB0-94AF-E8C46F1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94EB7-1598-440D-A0DF-006EC63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F050D-412C-4AA6-9C2C-CD5B2C2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2C274-B1BF-432C-950E-59708D54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9FC79-15AA-4211-AF2D-1C3058F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28B8C-BB17-4B7E-8641-3C57FF7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049D9-B976-4182-A4D3-1CE8BD4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A318F-F133-48EC-BE39-B296264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7DBEB-9CBE-4025-B2B0-98663387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7D94-E5F6-4818-B1DC-5FB218F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C0DEB-409B-4230-A945-603F5538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C1E00-E2D0-4420-BC1D-FBC0857D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0815E-C6A1-4A38-8879-2E77D3B4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EBA3E-364A-4A18-80E7-72394646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5592A-0E29-4B3C-8FF9-220571E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8CBF1-859D-43A9-A962-1508D27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D6CEA-B625-4C5F-98F2-2FF2262B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E3012-2A64-47D7-9357-364A11A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92DDA-5FA0-4EAF-AE69-4F58C39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33EAE-A2F7-476E-91E0-928000CA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FD4A-705B-4C9C-B778-4B7761E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AEF8D-28A0-4BD9-908C-CC5A970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C3F07-2956-4EEC-81FA-5726C22B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84332-A4EE-434E-A1B6-484826B7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14918-2BB5-435B-AC02-BEC4C4A0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D7FCB-1B88-44D2-B49D-F04878C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32E25-2DA9-44FE-8BFE-A0E1D4C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47471-D2CB-4DF4-8793-B888B24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260E6-0BC8-46A1-B05B-62B24B67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609E8-061F-4322-87BC-8997010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E0B70-B4FC-4382-B8AD-5A1853E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78D-3F64-473F-B9E9-912ACFE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CC6-C51A-40B8-9229-83FDFE8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12E50-888C-4270-9CE4-1DDD825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F2010-6EA8-42F9-B068-D372403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8C0E4-B7E7-4F40-A2C2-C27914E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A5798-A288-4322-A238-24504164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2C694-9FB6-43D5-8106-9F586A6D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E85DE-3116-45FB-9DED-1547D38A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A4339-9B0C-4724-96B0-012B82B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122A4-07F7-4612-A2BD-B3032CFE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39FE6-8E08-4DC0-B296-24780E7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E0541-FE3E-4D11-B4B7-2C692F3F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0AF-888F-4B48-87A8-A8F8AF2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BE13D-C971-46EA-AB0C-A537FFF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B4E03-6B0A-40E8-ABB1-39DDF4CF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30AF6-72BC-43C9-90FF-C827A2B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D5F27-C614-4143-ADF1-2E257BC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FF002-AA3B-4111-B2BE-3F919973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38938-CF65-4230-A2C7-72EE235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F75F8-6DC1-4023-A911-8A2E2FE2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C1584-3CC3-4C81-A453-EAE66BEA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429D6-31D8-4A7A-AB1D-6997F68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68B45-7704-4257-A384-FE17AE86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FA5E-CABC-4B53-B23D-D1255F7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DA7D0-EE5B-4025-B390-3D58D2FF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6D357-EE5B-4EBE-B9AD-B71B993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3F70B-99BA-4F17-B16F-555CDF8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D8B04-DEB6-4C12-8254-5A04B76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4AB53-FA80-4A90-A9AA-83B8BA9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84CD9-F5D2-465E-BB60-E984632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08A56-B916-4872-B76B-B9BAFF4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BD9E4-046B-4D67-8CDA-34754CA2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D2FA1-78C8-4033-8741-C2E214FD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2DE0F-70DD-4D6E-BD95-40B2BA2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09E9-87DB-41CF-8F6E-BEEC9CB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7D4E6-F04D-4645-B96F-87B0F8B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ACEEB-9359-4EC0-9F22-5BB33A08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B6891-0A10-4852-AAEC-8CFE6CB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88828-F891-4A24-AEC0-B12D887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40A51-0462-4485-87F9-C655194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5A24E-4C09-4A82-80E4-A581B82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43F9F-0532-480C-93C7-75B02A3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8CC7B-32AF-4ECA-B9D0-42A9C0B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6A873-8AEF-4483-9CEE-72720633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74B00-E8C0-464A-A55C-6AD52266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9622-13F8-4412-B3D6-00B4E30E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CAE7F-F97A-4A02-8D5D-0714618D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F4F91-D33B-44DB-95F5-75AF6290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C849C-2243-4AAC-8FFA-75C0C86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23553-A793-45B7-AEB0-AA23EB26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E4AB2-94C1-4113-9060-F1E4D854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36BEC-205C-4A92-BDD2-C8409C1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56E9F-0D0E-48A6-A775-6A7CAD5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7AE9F-ADAB-41F9-BA8C-BFD2B67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CA28E-921B-496C-8941-5389DF3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D9464-7547-429C-B034-C88DE2D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BA10-7932-42CA-9F4C-4C590560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80506-536C-4B62-A264-F78F5E1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709B0-69FE-4312-9478-4E2210A5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ECBF2-F191-4364-8CE4-223CEB97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7528-E7C9-49EB-AB09-D988F70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6181-6508-496D-AE13-6B385B0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C442-6A17-4BA3-8CA9-3AA6A1D1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9118-DDCE-4949-B740-7B4EC9C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282-8BF8-4351-B0F3-94239BB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0BE2-11A7-42F3-A957-6922A71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C9F7-D06F-4DCD-AB2F-93C003F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FDE1-BCC7-49A0-9B40-B979AA4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6D5C-613B-498F-854D-55C33E2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BC08-CDF1-4491-928B-B4912A6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3EEC-CC95-4DA0-B4D3-457017AB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972E-79B6-4968-9EDD-D7A2BC25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EC0F-7A34-4A66-8BCE-F00B173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A10D-1C73-4599-985D-996E97D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D044-80A6-4DE1-8ECE-8FA0FD5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7E1-6A21-4085-B74D-D22BC1E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A925-4EAA-4F2B-BC60-11ED5203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DF7F-EE8F-440B-ADD7-F3D6AB8F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8529-886E-4122-BA2E-5CF35FB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4AF0-7094-4142-9398-AEB1A326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8C48-ED80-4C74-AEAE-A03E484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990F-0763-4838-8FB6-528BBDE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A132-ADE5-4EE9-B16F-529F8168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F988-44FF-48C4-9A07-7EF75CDE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75D3-C377-4212-BF1D-C523EB72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EBEB-31C9-41F3-8F2A-5CE62809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C11-2B72-4B86-AFEB-85E0F100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406BF-8448-4F3D-AEA1-73FBA5B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20FE-CCF8-4643-B0FB-AD6ED283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87D0-BD07-403F-A7A3-9AB8F99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028C-2DD8-434B-8F9E-D5EC05EC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6573-71E9-4F7E-963B-93B8B213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EA82-743D-4724-AC4F-5329B46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9C83-CCED-4690-968E-B7E837D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72F0-E7A9-40C6-B14C-14C1D7B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B2DE-D3ED-4113-90D4-EC2441C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03E3-6D5E-48BA-B968-CA70EA8A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F3D-2468-4DB5-8AEB-1D22F49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7375-E62A-4CC0-9BC1-7A847D2B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457E-A1CA-4C50-95B3-61920E4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84E0-B9D1-4567-97DF-4606154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79CA-A087-4502-B037-028E74C0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37AB-30C6-4F50-9116-77EBBC4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248D-B174-4601-BAAA-0C202424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10D6-2BE2-43CC-92B6-60947FF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7653-2AE3-4A1C-B5C7-3631A57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71A8-CC79-4BD5-A302-9FC0F43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3FF0-C07E-4BF8-B6A2-C8635939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61D-F7D1-471C-9AAD-E881E73C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AB9E-E2BF-46AA-9BBE-5E5A305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F06E7-4639-48E5-B2F5-D41DF106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E31B4-5A27-4ED9-80D1-E10275D1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7643-5270-47F7-A235-A0EC1D61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CDDC9-12B6-45EB-A163-977E1C3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CC04A-175A-46FE-8D9E-E3F4B290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E0EF-78BA-46F7-8C9D-314C4B6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7726-9EE9-4F78-9813-DCA4069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7859-8604-4549-A7CE-7A399541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579F-7578-410A-8940-20E7B3A8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76E-5202-4750-9A0C-F41B015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7484-F782-4B11-BE1C-41B6EFF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4CBB-C260-4863-B2F9-9E23894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13FC-D54F-4B35-A084-91A80A7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E425-17AD-4187-8AD8-0BF5374A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E25A-4273-4088-BA65-12DA6C7F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0867-0257-42B3-9F29-D6E7CD95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8AD6A-CFC0-40CF-B5BC-8A00E317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9651-5336-455F-9451-7A329763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BC62-5367-4720-870D-BEF67BA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79DF-7DD2-406E-BAF9-2FB9BD6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DC0-4ABC-4CD4-9FBB-727E42D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03966-59AA-4B3F-BAF3-126A018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CC6F-9BAD-4E23-9C18-6BA8DD9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97DAD-E326-449B-8C20-0E78ADF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E8F6-4831-4206-8A32-B3302C8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6CD6-55BC-4F7C-875C-C33F99D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4E3B2-4D24-432C-BEC8-1D7242BA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479B-C2E8-4C85-893E-F5D6701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4E4B2-7076-4D84-9E0A-CD2DC4F3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A8FBA-8515-4D93-A3AB-9F54D39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46D80-559D-401D-B474-080453F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F629-A0A5-4B01-9ECC-12BE1A6402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D76-29B4-451D-A115-B0BFC2380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D69D-25DC-491C-BB94-BE4054467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9EC-A64A-4100-8C2C-AB19E4BB7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412B-310C-414C-8C3B-2CB23688C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EA3D-3CE3-44C9-9920-48A462555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5AF-86D7-4DB3-A249-F2CC82E55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861-BAC3-409D-8035-1CFA7BF97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763-4FA3-4B00-8679-FDB2AA4E5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767-BA79-4141-8039-94D5E971A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D898-3B29-4496-8600-8E4730E5B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FC0-D4DA-4461-BC46-2A1371054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699-14DD-4EF3-9A2B-C0B9B6D93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538A-8CC6-4D5E-98A9-28068E3DA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4ECE-FADB-4F68-B345-E5E2087473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92F7-F6CA-4E8A-AD5F-C6782C29D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F0C-1B86-45D6-9358-A35C8B60D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F6F-193F-4AE1-BEFC-71EB62F2C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04F-A2DA-4BB8-91EC-2DB7F1689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221D-23F2-4664-817C-638BB5F24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0DF-C5FC-42A0-B50A-B018AB45D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7D0-7724-4740-8811-2F016DBD1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0E6-9E8B-4D88-9B02-155254BB1C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DD7-709D-46A1-91C4-C3048BEC7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F5B6-320C-41BB-BD44-4C6C37F22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9914-B8C9-4B4A-9B8D-E66FCA764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B40-7C72-4B37-8AC0-3407A6A1E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B20A-E7F4-4EBA-AE4F-0F9C7ACCA1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2EAB-1793-48A9-8B81-2EC33716B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369-956D-41E0-A666-846991782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0DD-6C32-43DC-BC8C-90A543448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69BA-E327-4175-B684-CAE634961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20E1-5A77-4319-BA78-81B7DF603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80EF-8CCE-4540-9FDB-0B9B32D87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F12-4F7C-419E-A3AF-1FED33610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DC1-E779-4426-BA51-83CE73DAD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2E61-7786-455C-96E3-8FD79DB5A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B48-62A1-4FA5-99F6-D1EBECCBE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CDE-9DD5-4374-995E-7ED2DB3E38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0EE-E5DB-4F39-AFB3-0BA4522AE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85880" y="2909880"/>
            <a:ext cx="7572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252360" y="887400"/>
            <a:ext cx="8639280" cy="5781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00000" y="410688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1042920" y="4724280"/>
            <a:ext cx="568800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1042920" y="5950080"/>
            <a:ext cx="568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08120"/>
            <a:ext cx="8591760" cy="610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948360" y="5603760"/>
            <a:ext cx="15112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311560" y="6292800"/>
            <a:ext cx="1511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47640" y="781200"/>
            <a:ext cx="7848720" cy="574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6443640" y="2133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924360" y="350028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427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4427640" y="479736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6659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6588000" y="481176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3132000" y="5964120"/>
            <a:ext cx="93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9880" y="1314360"/>
            <a:ext cx="8544240" cy="4229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14280" y="1314360"/>
            <a:ext cx="8515440" cy="4229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545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54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99880" y="1247760"/>
            <a:ext cx="8544240" cy="4362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525600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258920" y="443700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1187280" y="5041800"/>
            <a:ext cx="52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600120" y="1619280"/>
            <a:ext cx="7943760" cy="3619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116000" y="226224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4464360" cy="936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393372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446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62080" y="1862280"/>
            <a:ext cx="8619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395280" y="1057320"/>
            <a:ext cx="8353440" cy="4743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184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68360" y="2392200"/>
            <a:ext cx="5184720" cy="8208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395280" y="5243400"/>
            <a:ext cx="828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0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